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F84-9479-40C3-AADA-B6894428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B71-EFB9-4FD6-A95C-DEB0CD8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A20-22BC-46C8-9D5D-1A69E6A2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2A0-B896-49C3-BD1B-F85D7349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F2A0-D1DC-474F-837B-8ABEF2AE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DAD-71C4-4F0D-814E-C200201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0EA6-371F-43D2-A0C7-016D41D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5BB-9094-47D2-8E89-CA401D3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1A6A-E423-4E28-8738-9DEFBFC2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1D8C-6E22-4D31-B12D-2AA924DD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CEA-67A6-48FF-ABDA-49B9391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624-310B-4F46-92FA-0412CD3E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BFC-0E31-46AC-AD6F-69FCDB8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729-0749-4B09-BF44-C7FE838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1502-028C-4289-9AD0-EBABF3A9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C7D5-41E1-4C37-9434-0E7FCB5A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91A-1A43-4E2F-A9FF-D3D343A8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D96-7E8D-44F1-8526-9D87C6D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647-5D0C-4BF2-8E9D-E04855C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A94-0924-4A15-AA40-A08AE1F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64A-63EA-4EBB-B1D4-09CC0E46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43D-6F9A-493D-988B-8888E21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89E-5930-4B9F-B0CA-67A3026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7E0-0B4B-469D-B81C-4CB4168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DBB-18B0-4198-8DFF-E7BC0997574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5CC-9A4A-4F5C-9AD9-33EA3FFED76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Excuse My Dea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nt Sal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0 - 10(4-2) +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(9) - 3(6 - 1) +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8 + 24/4 *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0 - 3(4)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- 4 *2 +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4 + 6(3 * 2)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0 - 10 (2 * 3)+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624040"/>
          <a:ext cx="769608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24040"/>
                    <a:ext cx="76960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06400" y="1962000"/>
          <a:ext cx="760572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962000"/>
                    <a:ext cx="760572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7520" y="1962000"/>
          <a:ext cx="570384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962000"/>
                    <a:ext cx="570384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320" y="6858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8 - 6(2)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4 or 6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2880" y="1916280"/>
          <a:ext cx="63342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916280"/>
                    <a:ext cx="63342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0000" y="1962000"/>
          <a:ext cx="6338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962000"/>
                    <a:ext cx="6338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79720" y="1962000"/>
          <a:ext cx="3260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962000"/>
                    <a:ext cx="3260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22520" y="2755800"/>
          <a:ext cx="59752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55800"/>
                    <a:ext cx="59752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36840" y="1873080"/>
          <a:ext cx="4346640" cy="29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873080"/>
                    <a:ext cx="4346640" cy="29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68560" y="2536920"/>
          <a:ext cx="688176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536920"/>
                    <a:ext cx="688176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590920"/>
          <a:ext cx="8229600" cy="14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229600" cy="14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5335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7 x 5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7 or 49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2/3 + 2 -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 or 5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2 + 3) x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 - 2 + 3 x 2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 or 4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685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5 + 2) - 3 x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6 or -5?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3:26Z</dcterms:created>
  <dc:creator>PA Department of Education</dc:creator>
  <dc:description/>
  <dc:language>en-US</dc:language>
  <cp:lastModifiedBy>PA Department of Education</cp:lastModifiedBy>
  <dcterms:modified xsi:type="dcterms:W3CDTF">2008-09-14T11:26:47Z</dcterms:modified>
  <cp:revision>7</cp:revision>
  <dc:subject/>
  <dc:title>Order of Operations</dc:title>
</cp:coreProperties>
</file>